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3B45-6783-41CB-A9B9-69FF75B2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698F-F1B2-495D-8079-344A6F36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BDA9-9F33-4B71-865C-FD05679C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9E85-B6A0-4822-9EFD-9FF7A52C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5D7A-8481-4589-BC4E-4E67A835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3974-C3A0-4D56-9100-D9D8685E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5342-10FF-49A4-BBF5-7E853A60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1784-D82D-49FE-A6BF-F3B427E5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30C4-9015-4CCE-BE90-D09BEB0B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25BF-AE46-4927-8B00-49CEDADD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DFA9-D7CF-45E2-8CC6-59C0459B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C0FE-46CF-45EE-94BA-7CAF1689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B603-997D-4CE5-BAF9-835A383F4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23184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Arial"/>
              </a:rPr>
              <a:t>Me llamo ___________  Clase 702</a:t>
            </a:r>
            <a:br>
              <a:rPr sz="4000"/>
            </a:br>
            <a:r>
              <a:rPr b="0" lang="en-US" sz="4000" spc="-1" strike="noStrike">
                <a:solidFill>
                  <a:srgbClr val="00b050"/>
                </a:solidFill>
                <a:latin typeface="Arial"/>
              </a:rPr>
              <a:t>La fecha es el  26 de enero del 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960" y="1599840"/>
            <a:ext cx="8762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osito # 46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Juegan ustedes al ten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completa con la forma correcta del verbo TE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los _______ una mascota. _____ un g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uestra escuela ______ un equipo de beisbol bue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_______ tú una familia grande o pequeñ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________ muchos pri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036440"/>
            <a:ext cx="86104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recognize SPANISH verb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it mean to “conjugate” a ver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steps to “conjugate” a ver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0880" y="1690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All Spanish verbs end in either –AR, -ER or -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04920" y="25909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To “conjugate” a verb means to change it in order to us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80880" y="405288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1. Find the INFINITIVE verb ending. 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(-ar, -er, -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80880" y="4738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2. Remove the INFINITIVE</a:t>
            </a: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verb e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80880" y="553068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3. Replace with the appropriate NEW e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endings for verbs in the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,Ella,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os,Ellas, U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901320" y="190512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812040" y="245268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888000" y="29862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570120" y="351936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735720" y="40384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80"/>
                </a:solidFill>
                <a:latin typeface="Arial"/>
              </a:rPr>
              <a:t>-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778920" y="45100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631560" y="182880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6555240" y="237636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643800" y="29098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5489280" y="350532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7241400" y="351936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-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5720040" y="40384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-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7576560" y="4052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-í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6707880" y="45864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1143000"/>
          <a:ext cx="9067680" cy="5043600"/>
        </p:xfrm>
        <a:graphic>
          <a:graphicData uri="http://schemas.openxmlformats.org/drawingml/2006/table">
            <a:tbl>
              <a:tblPr/>
              <a:tblGrid>
                <a:gridCol w="3354480"/>
                <a:gridCol w="5713200"/>
              </a:tblGrid>
              <a:tr h="75420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                         </a:t>
                      </a: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Lanzar         </a:t>
                      </a: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Meter       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ubr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Line 31"/>
          <p:cNvSpPr/>
          <p:nvPr/>
        </p:nvSpPr>
        <p:spPr>
          <a:xfrm flipV="1">
            <a:off x="335268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4"/>
          <p:cNvSpPr/>
          <p:nvPr/>
        </p:nvSpPr>
        <p:spPr>
          <a:xfrm>
            <a:off x="541008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5"/>
          <p:cNvSpPr/>
          <p:nvPr/>
        </p:nvSpPr>
        <p:spPr>
          <a:xfrm>
            <a:off x="731520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6"/>
          <p:cNvSpPr/>
          <p:nvPr/>
        </p:nvSpPr>
        <p:spPr>
          <a:xfrm>
            <a:off x="3737160" y="190512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3"/>
          <p:cNvSpPr/>
          <p:nvPr/>
        </p:nvSpPr>
        <p:spPr>
          <a:xfrm flipV="1">
            <a:off x="541008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4"/>
          <p:cNvSpPr/>
          <p:nvPr/>
        </p:nvSpPr>
        <p:spPr>
          <a:xfrm flipV="1">
            <a:off x="731520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5"/>
          <p:cNvSpPr/>
          <p:nvPr/>
        </p:nvSpPr>
        <p:spPr>
          <a:xfrm>
            <a:off x="3660480" y="260496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6"/>
          <p:cNvSpPr/>
          <p:nvPr/>
        </p:nvSpPr>
        <p:spPr>
          <a:xfrm>
            <a:off x="3762000" y="33670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7"/>
          <p:cNvSpPr/>
          <p:nvPr/>
        </p:nvSpPr>
        <p:spPr>
          <a:xfrm>
            <a:off x="3412080" y="411480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8"/>
          <p:cNvSpPr/>
          <p:nvPr/>
        </p:nvSpPr>
        <p:spPr>
          <a:xfrm>
            <a:off x="3694320" y="4876920"/>
            <a:ext cx="14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0" i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9"/>
          <p:cNvSpPr/>
          <p:nvPr/>
        </p:nvSpPr>
        <p:spPr>
          <a:xfrm>
            <a:off x="3660840" y="5653080"/>
            <a:ext cx="14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0"/>
          <p:cNvSpPr/>
          <p:nvPr/>
        </p:nvSpPr>
        <p:spPr>
          <a:xfrm>
            <a:off x="5768640" y="190512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1"/>
          <p:cNvSpPr/>
          <p:nvPr/>
        </p:nvSpPr>
        <p:spPr>
          <a:xfrm>
            <a:off x="5717880" y="2590920"/>
            <a:ext cx="11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2"/>
          <p:cNvSpPr/>
          <p:nvPr/>
        </p:nvSpPr>
        <p:spPr>
          <a:xfrm>
            <a:off x="5787360" y="33670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3"/>
          <p:cNvSpPr/>
          <p:nvPr/>
        </p:nvSpPr>
        <p:spPr>
          <a:xfrm>
            <a:off x="5490000" y="4114800"/>
            <a:ext cx="172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4"/>
          <p:cNvSpPr/>
          <p:nvPr/>
        </p:nvSpPr>
        <p:spPr>
          <a:xfrm>
            <a:off x="5702760" y="48909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0" i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5"/>
          <p:cNvSpPr/>
          <p:nvPr/>
        </p:nvSpPr>
        <p:spPr>
          <a:xfrm>
            <a:off x="5724720" y="565308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6"/>
          <p:cNvSpPr/>
          <p:nvPr/>
        </p:nvSpPr>
        <p:spPr>
          <a:xfrm>
            <a:off x="7610760" y="191916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7"/>
          <p:cNvSpPr/>
          <p:nvPr/>
        </p:nvSpPr>
        <p:spPr>
          <a:xfrm>
            <a:off x="7507440" y="260496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8"/>
          <p:cNvSpPr/>
          <p:nvPr/>
        </p:nvSpPr>
        <p:spPr>
          <a:xfrm>
            <a:off x="7547040" y="336708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9"/>
          <p:cNvSpPr/>
          <p:nvPr/>
        </p:nvSpPr>
        <p:spPr>
          <a:xfrm>
            <a:off x="7302960" y="412920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0"/>
          <p:cNvSpPr/>
          <p:nvPr/>
        </p:nvSpPr>
        <p:spPr>
          <a:xfrm>
            <a:off x="7577640" y="4967280"/>
            <a:ext cx="12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í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1"/>
          <p:cNvSpPr/>
          <p:nvPr/>
        </p:nvSpPr>
        <p:spPr>
          <a:xfrm>
            <a:off x="7471080" y="565308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nd the INFINITIVE en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b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2. Remove the INFINITIVE verb en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3. Replace with the appropriate NEW end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Yo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Tú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Él ella Ud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Nosotros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Vosotros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Ellos Ellas Uds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/>
          <p:cNvSpPr/>
          <p:nvPr/>
        </p:nvSpPr>
        <p:spPr>
          <a:xfrm>
            <a:off x="3809880" y="1905120"/>
            <a:ext cx="38124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735720" y="31240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735720" y="3976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3735360" y="44337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735720" y="4815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741120" y="525780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3735360" y="57150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735720" y="6110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Verbos de Cambio Radical E</a:t>
            </a:r>
            <a:r>
              <a:rPr b="0" lang="en-US" sz="44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IE</a:t>
            </a:r>
            <a:br>
              <a:rPr sz="4000"/>
            </a:b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(stem-changing verbs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US" sz="4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verbs in Spanish are called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stem-cha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rbs. When conjugated, these verbs don’t only change the ending, they also change the STEM or root;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XCEP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pronouns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nosot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vosotros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se verbs are also known a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OOT VERB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when conjugated in the following form, only the verb INSIDE the book take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320" y="4282920"/>
          <a:ext cx="8991360" cy="2498760"/>
        </p:xfrm>
        <a:graphic>
          <a:graphicData uri="http://schemas.openxmlformats.org/drawingml/2006/table">
            <a:tbl>
              <a:tblPr/>
              <a:tblGrid>
                <a:gridCol w="2371680"/>
                <a:gridCol w="2206440"/>
                <a:gridCol w="2206800"/>
                <a:gridCol w="2206440"/>
              </a:tblGrid>
              <a:tr h="51840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mp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z</a:t>
                      </a:r>
                      <a:r>
                        <a:rPr b="1" lang="en-US" sz="2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ar </a:t>
                      </a: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to begi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42"/>
          <p:cNvSpPr/>
          <p:nvPr/>
        </p:nvSpPr>
        <p:spPr>
          <a:xfrm>
            <a:off x="2438280" y="4815000"/>
            <a:ext cx="221004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3"/>
          <p:cNvSpPr/>
          <p:nvPr/>
        </p:nvSpPr>
        <p:spPr>
          <a:xfrm>
            <a:off x="2438280" y="5348160"/>
            <a:ext cx="221004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4"/>
          <p:cNvSpPr/>
          <p:nvPr/>
        </p:nvSpPr>
        <p:spPr>
          <a:xfrm>
            <a:off x="2438280" y="5867280"/>
            <a:ext cx="2210040" cy="947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5"/>
          <p:cNvSpPr/>
          <p:nvPr/>
        </p:nvSpPr>
        <p:spPr>
          <a:xfrm>
            <a:off x="6858000" y="48150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Empez</a:t>
            </a:r>
            <a:r>
              <a:rPr b="1" lang="es-ES_tradnl" sz="2800" spc="-1" strike="noStrike" u="sng">
                <a:solidFill>
                  <a:srgbClr val="008000"/>
                </a:solidFill>
                <a:uFillTx/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6858000" y="5334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8000"/>
                </a:solidFill>
                <a:latin typeface="Arial"/>
              </a:rPr>
              <a:t>Empez</a:t>
            </a:r>
            <a:r>
              <a:rPr b="0" i="1" lang="es-ES_tradnl" sz="2800" spc="-1" strike="noStrike" u="sng">
                <a:solidFill>
                  <a:srgbClr val="008000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2"/>
          <p:cNvSpPr/>
          <p:nvPr/>
        </p:nvSpPr>
        <p:spPr>
          <a:xfrm>
            <a:off x="6858000" y="5867280"/>
            <a:ext cx="2127240" cy="947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2"/>
          <p:cNvSpPr/>
          <p:nvPr/>
        </p:nvSpPr>
        <p:spPr>
          <a:xfrm>
            <a:off x="4648320" y="5867280"/>
            <a:ext cx="2216160" cy="947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6864480" y="5867280"/>
            <a:ext cx="21207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2"/>
          <p:cNvSpPr/>
          <p:nvPr/>
        </p:nvSpPr>
        <p:spPr>
          <a:xfrm>
            <a:off x="2438280" y="6442200"/>
            <a:ext cx="4496040" cy="36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320" y="141768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ome examples of  stem-changing verb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Qu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r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(to want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P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der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(to lose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ir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(to prefer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se verbs are often followed by an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INFIN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erbos de Cambio Radical E</a:t>
            </a:r>
            <a:r>
              <a:rPr b="0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IE</a:t>
            </a:r>
            <a:br>
              <a:rPr sz="4000"/>
            </a:b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(stem-changing verbs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US" sz="4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64280" y="4890960"/>
            <a:ext cx="391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los pref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n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gan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89040" y="5500800"/>
            <a:ext cx="43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los no qu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n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er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596120" y="4876920"/>
            <a:ext cx="32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They prefer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to win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4840560" y="5500800"/>
            <a:ext cx="39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They don’t want 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to win.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area # 4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te the following verbs; remember the “stem-changing” rules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2 original sentences with each verb, make sure you use different pronouns or subjects. Get creative!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6 to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21:06:12Z</dcterms:created>
  <dc:creator>Helen Zumaeta</dc:creator>
  <dc:description/>
  <dc:language>en-US</dc:language>
  <cp:lastModifiedBy>Helen Zumaeta</cp:lastModifiedBy>
  <cp:lastPrinted>2015-01-26T16:55:06Z</cp:lastPrinted>
  <dcterms:modified xsi:type="dcterms:W3CDTF">2015-01-26T20:28:05Z</dcterms:modified>
  <cp:revision>37</cp:revision>
  <dc:subject/>
  <dc:title>Me llamo ___________  Clase 7 IM La fecha es el 18 de noviembre del 2010</dc:title>
</cp:coreProperties>
</file>